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800B-65A8-45A9-B271-46A57344D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AAA-41C7-426B-94A5-BC5459A0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9CB-B56E-487F-9CA3-20EAEEF1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120-C40F-46CC-81B8-AF76690C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BA8E-A675-4609-8BFC-FC8017A2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69A4-5C83-426F-80CA-C935BD4C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5E40-592D-41E2-8EEF-A4EB6154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5797-1A58-498F-92A0-2CB3335D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F8AE-2C33-4839-99AD-221BBA5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BE71-53DC-4C12-9CE5-A68BA77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155D-84F1-4D40-AE77-A6BC7FC4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C8C-2F25-4B35-B3B7-26552D6A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5DFC-8D97-4934-B0FA-D2CB05B9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CD0A-FD0B-49B9-ABF6-3F1986B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1BC-7BFD-4B0C-9233-8ACE7E7C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D61D-AEC7-42CB-ABB0-AC01EE8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9E8B-83F8-4829-A3B2-B510A5F2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BE07-3198-4831-B228-BF8D9396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D0C-9493-4CFE-A6F0-B2558F9A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F59-D29D-4EF2-BF4F-AE0CEDD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418-39DB-4B42-9620-B26D4F17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BF1-D561-434B-A5BD-E91C4EF4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298-D051-4008-952E-059D9973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98B-8590-4B5B-8D1C-39170BB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2620-16CA-4E4A-9B6B-2C4244AAF18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718F-46A3-4600-B7C4-81B3757AAB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ANs &amp; W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QBY Middle Schoo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28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we share informatio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l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uri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evi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bsit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tant Messag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3881160" cy="3941640"/>
          </a:xfrm>
          <a:prstGeom prst="rect">
            <a:avLst/>
          </a:prstGeom>
          <a:ln w="0">
            <a:noFill/>
          </a:ln>
        </p:spPr>
      </p:pic>
      <p:sp>
        <p:nvSpPr>
          <p:cNvPr id="10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net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or more computers connected together to share 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51480" y="2638440"/>
            <a:ext cx="2389320" cy="3170160"/>
          </a:xfrm>
          <a:prstGeom prst="rect">
            <a:avLst/>
          </a:prstGeom>
          <a:ln w="0">
            <a:noFill/>
          </a:ln>
        </p:spPr>
      </p:pic>
      <p:sp>
        <p:nvSpPr>
          <p:cNvPr id="10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657600"/>
            <a:ext cx="39625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nt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ogra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torage Sp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ernet ac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e all networks alik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3581280"/>
            <a:ext cx="3770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Ns- Wide area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761000" y="2490840"/>
          <a:ext cx="376848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1000" y="2490840"/>
                    <a:ext cx="376848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52880" y="2438280"/>
          <a:ext cx="317340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438280"/>
                    <a:ext cx="31734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2728800"/>
          <a:ext cx="3971880" cy="307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28800"/>
                    <a:ext cx="3971880" cy="30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343400" y="2819520"/>
          <a:ext cx="4238640" cy="287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2819520"/>
                    <a:ext cx="423864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62120" y="2743200"/>
            <a:ext cx="3770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s-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al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419720"/>
            <a:ext cx="377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et-Network of Networ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r De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75040" y="2395440"/>
            <a:ext cx="5219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 order to share files computers must have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0" y="2971800"/>
          <a:ext cx="35751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71800"/>
                    <a:ext cx="35751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2895480"/>
            <a:ext cx="289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P add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tworking De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952880" y="3276720"/>
          <a:ext cx="3441960" cy="104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276720"/>
                    <a:ext cx="34419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143000" y="3276720"/>
          <a:ext cx="345456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276720"/>
                    <a:ext cx="345456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25146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a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Exter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s of a 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sts (Compu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witch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r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reless (WiFi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thernet is the stand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s of a W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629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o or more L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u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nec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1/T3 – high band width, dedica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ble – Shared with neighb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SL – Digital Subscriber L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l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tell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7:13:53Z</dcterms:created>
  <dc:creator>sjackson</dc:creator>
  <dc:description/>
  <dc:language>en-US</dc:language>
  <cp:lastModifiedBy>jpotter</cp:lastModifiedBy>
  <dcterms:modified xsi:type="dcterms:W3CDTF">2008-09-22T17:18:30Z</dcterms:modified>
  <cp:revision>27</cp:revision>
  <dc:subject/>
  <dc:title>Lans &amp; Wans</dc:title>
</cp:coreProperties>
</file>